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0A1A-FBFF-4DEB-92B2-DBAAEE098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87BC-B5DE-458D-8E57-56AFDCFAF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571E-E905-452E-B68E-D80EA67A6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09C5-F7A9-4F8F-BB3B-9C9300E21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C675-1FFB-4B7D-9202-FBA8C823B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3A7F-FE99-49D0-A295-6B5EDF2F0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DD82-10B5-4FF4-A5D3-932DC8AD5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7AC0-9917-4F44-9681-D03C85B7E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84AC-C793-4EB1-A598-B9718ED26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594C-F4C9-4389-8086-AC6AF8C96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4BFB-DCF2-4B57-9833-5C5DF5DA6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00CF-2B39-4D15-A9A2-41913512A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974B-444A-4F8E-AB9A-D87C024F265E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0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grpSp>
        <p:nvGrpSpPr>
          <p:cNvPr id="41" name="Grupo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tângulo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tângulo 7"/>
            <p:cNvSpPr/>
            <p:nvPr/>
          </p:nvSpPr>
          <p:spPr>
            <a:xfrm>
              <a:off x="1908000" y="907920"/>
              <a:ext cx="6696000" cy="5042160"/>
            </a:xfrm>
            <a:prstGeom prst="rect">
              <a:avLst/>
            </a:prstGeom>
            <a:solidFill>
              <a:srgbClr val="f2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Imagem 2" descr=""/>
            <p:cNvPicPr/>
            <p:nvPr/>
          </p:nvPicPr>
          <p:blipFill>
            <a:blip r:embed="rId4"/>
            <a:stretch/>
          </p:blipFill>
          <p:spPr>
            <a:xfrm>
              <a:off x="6693840" y="1484640"/>
              <a:ext cx="15127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ique para editar o nome do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Clique para editar o cargo do a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que para editar local 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0" t="0" r="0" b="2267"/>
          <a:stretch/>
        </p:blipFill>
        <p:spPr>
          <a:xfrm>
            <a:off x="1692360" y="898560"/>
            <a:ext cx="7094520" cy="5122800"/>
          </a:xfrm>
          <a:prstGeom prst="rect">
            <a:avLst/>
          </a:prstGeom>
          <a:ln w="0">
            <a:noFill/>
          </a:ln>
        </p:spPr>
      </p:pic>
      <p:sp>
        <p:nvSpPr>
          <p:cNvPr id="86" name="Título 1"/>
          <p:cNvSpPr/>
          <p:nvPr/>
        </p:nvSpPr>
        <p:spPr>
          <a:xfrm>
            <a:off x="1908000" y="3003480"/>
            <a:ext cx="62992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3ª EDIÇÃO DO GLOSSÁRIO TEMÁTICO SAÚDE SUPLE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OPDI-GEQIN-GGDIN-DI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Rio de Janeiro, 01 de junho d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5364000" y="1590840"/>
            <a:ext cx="2868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2472-89F3-4143-8574-6916C7515551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Alterações da 3ª Edição do Glossário Temático Saú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4360" y="1197000"/>
          <a:ext cx="7343640" cy="5278320"/>
        </p:xfrm>
        <a:graphic>
          <a:graphicData uri="http://schemas.openxmlformats.org/drawingml/2006/table">
            <a:tbl>
              <a:tblPr/>
              <a:tblGrid>
                <a:gridCol w="2592360"/>
                <a:gridCol w="2374920"/>
                <a:gridCol w="2376360"/>
              </a:tblGrid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INCL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COM DEFINIÇÕES ALTE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RETI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Agrupamento de Contra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companhamento Econômico-Financeiro da Operado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dministradora de Planos de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Anormalidades Administrativas e Assistenciais Gra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dministradora de Benefíc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utogestão não Patrocina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Auto de Infr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lienação Parcial de Cart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utogestão Patrocina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rta de Informação à Gesta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Área de Atuação do Produ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âmara téc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ertidão de Acredit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Área Geográfica de Abra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nsulta Pú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ertificado de Entidade Acreditado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tendimento Identifi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entros Colabora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ódigo de Controle Operac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tivos Garanti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ordenador Médico de Infomação de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mitê de Padronização das Informações em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utogest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pendência Operac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mitê Permanente de Regulação da Atenção à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Aviso de Beneficiário Identifi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undo Dedicado ao Setor de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mitê Técnico de Avaliação da Qualidade Setor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au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undo Garantidor do Segmento de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ntrato de Orige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heque cau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vre Escolha do Prest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ntratualização (prestadore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ooperativa méd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ota Técnica de Ris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ontribuição para fins de Exercício do Direito de Aposentados e Pensionist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ooperativa Odontológ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úcleo Regional de Atendimento e Fiscaliz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3F43-4591-4029-8150-66F1C114F98D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Alterações da 3ª Edição do Glossário Temático Saúde Suple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4360" y="1039680"/>
          <a:ext cx="7343640" cy="5415120"/>
        </p:xfrm>
        <a:graphic>
          <a:graphicData uri="http://schemas.openxmlformats.org/drawingml/2006/table">
            <a:tbl>
              <a:tblPr/>
              <a:tblGrid>
                <a:gridCol w="2592360"/>
                <a:gridCol w="2376360"/>
                <a:gridCol w="2374920"/>
              </a:tblGrid>
              <a:tr h="5475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INCL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COM DEFINIÇÕES ALTE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RETI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ados Integrados da Qualida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Diretor Técn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articipante de Plano Privado de Assistência à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sponibilidade de Serviços Par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Diretoria de Fiscaliz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olítica de Qualificação d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sponibilidade de Serviços 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Diretoria de Normas e Habilitação de Operado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rograma Olho viv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Entendimento DIF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Diretrizes Clínic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gistro provisório de Produ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Extensão de Indisponibilidade de Be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Dique 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paração Espontânea e imedia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Fator Qualida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ilantrop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ol de Procedimentos Médicos e Odontológ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arantia de Atendi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Impugnação ao Ressarcimento ao 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egur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omolog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Medicina de Grup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istema de Avaliação de Desempenho Individual da 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Identificação Padrão d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Nota Técnica de Registro de Produ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abela de Cus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Imóvel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Núcleos 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ipo Compatí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Imóvel Operac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Odontologia de Grup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isita Téc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Índice de Reajus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adrão de Troca de Informações em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Índice de Reajuste Definido pela 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lano de Recuper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0CEF-1E0C-4CEC-A6AC-366D0B8A5B59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e89"/>
                </a:solidFill>
                <a:latin typeface="Calibri"/>
              </a:rPr>
              <a:t>Alterações da 3ª Edição do Glossário Temático Saúde Suplem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907920"/>
          <a:ext cx="7343640" cy="5616720"/>
        </p:xfrm>
        <a:graphic>
          <a:graphicData uri="http://schemas.openxmlformats.org/drawingml/2006/table">
            <a:tbl>
              <a:tblPr/>
              <a:tblGrid>
                <a:gridCol w="2592360"/>
                <a:gridCol w="2519280"/>
                <a:gridCol w="2232000"/>
              </a:tblGrid>
              <a:tr h="4813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INCL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COM DEFINIÇÕES ALTE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RETI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</a:tr>
              <a:tr h="2664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Indisponibilidade de Be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Odontologia de Grup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evantamento Parcial de Indisponibilidade de Be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adrão de Troca de Informação em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evantamento Total de Indisponibilidade de Be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lano de Recuper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iquidante Extrajudi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lano de Recuperação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Margem de Solv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grama de Monitoramento da Qualidade dos Prestadores de Serviços n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Monitoramento do Risco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grama de Qualificação d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Município de Deman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rovisões Técnic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Município de Atendimento do Beneficiá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cursos Próprios Mínim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Município do Beneficiá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embolso de Despesa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Notificação de intermediação Preliminar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gião de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Notificação de Intermediação Preliminar não Assi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gime Especial de Liquidação 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Extrajudi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Notificação Eletrônica de Ressarcimento ao 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paração Voluntária e Efica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arto Adequ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presentação Contra a Operado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B2D7-1802-485D-893C-27B45DEA1181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Alterações da 3ª Edição do Glossário Temático Saúde Suple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1004760"/>
          <a:ext cx="7343640" cy="5408640"/>
        </p:xfrm>
        <a:graphic>
          <a:graphicData uri="http://schemas.openxmlformats.org/drawingml/2006/table">
            <a:tbl>
              <a:tblPr/>
              <a:tblGrid>
                <a:gridCol w="2952720"/>
                <a:gridCol w="2303280"/>
                <a:gridCol w="2087640"/>
              </a:tblGrid>
              <a:tr h="5612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INCL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COM DEFINIÇÕES ALTE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RETI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</a:tr>
              <a:tr h="208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atrimônio Mínimo ajust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Ressarcimento ao 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lano de Contas Padrão 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Seguradora especializada em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estador de Serviço de Assistência á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Sistema de informação de produ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cedimentos de Adequação Econômico-Financei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Sistema de informação de beneficiár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grama de Acreditação de Operadoras de Planos Privados de Assistência à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Taxa de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grama de Saneamento Assiste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gramas para Promoção da Saúde e Prevenção de Riscos e Doenças n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moção da Saúde e Prevenção de Riscos e Doenças na Saúde Suplemen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tocolo de Utiliz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tocolo Eletrônico de Ressarcimento ao 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visão para Eventos/sinistros a Liquid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visão  de Eventos/sinistros ocorridos e não Avis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visão para remiss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0410-E437-4F5E-834F-CA365930A2B9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Alterações da 3ª Edição do Glossário Temático Saúde Suple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1039680"/>
          <a:ext cx="7343640" cy="5626080"/>
        </p:xfrm>
        <a:graphic>
          <a:graphicData uri="http://schemas.openxmlformats.org/drawingml/2006/table">
            <a:tbl>
              <a:tblPr/>
              <a:tblGrid>
                <a:gridCol w="2592360"/>
                <a:gridCol w="2376360"/>
                <a:gridCol w="2374920"/>
              </a:tblGrid>
              <a:tr h="5252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INCL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COM DEFINIÇÕES ALTE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BETES RETI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088fae"/>
                    </a:solidFill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visão para Prêmios ou Contraprestações não Ganh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ede Contratualizada Dire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ede Contratualizada Indire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edimensionamento da Rede Hospitalar por Redu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istema Integrado de Fiscaliz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ubstituição de Entidade Hospital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uspensão Temporária do Atendimento Hospital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Termo de Compromisso de Ajuste de Cond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Víncul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itu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01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editação de Prestadors por Acreditação de Operadoras de Planos de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ificação de investigação preliminar por Notificação de intermediação prelimin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07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20736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C56E-7DDB-43FF-B501-B8B8C3ACD5B6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PROPOSTA PARA O GLOSSÁRIO NO SITE DA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Imagem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1532-F3AA-475C-880C-05E846DC13B6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PROPOSTA PARA O GLOSSÁRIO NO SITE DA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agem 2" descr=""/>
          <p:cNvPicPr/>
          <p:nvPr/>
        </p:nvPicPr>
        <p:blipFill>
          <a:blip r:embed="rId1"/>
          <a:stretch/>
        </p:blipFill>
        <p:spPr>
          <a:xfrm>
            <a:off x="0" y="1044720"/>
            <a:ext cx="914400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85D1-C6D3-4B9A-A725-D1D78DE94D14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ítulo 1"/>
          <p:cNvSpPr/>
          <p:nvPr/>
        </p:nvSpPr>
        <p:spPr>
          <a:xfrm>
            <a:off x="0" y="1268280"/>
            <a:ext cx="916776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49212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15" name="CaixaDeTexto 1"/>
          <p:cNvSpPr/>
          <p:nvPr/>
        </p:nvSpPr>
        <p:spPr>
          <a:xfrm>
            <a:off x="1069200" y="36450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.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257976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12"/>
          <p:cNvSpPr/>
          <p:nvPr/>
        </p:nvSpPr>
        <p:spPr>
          <a:xfrm>
            <a:off x="3103560" y="364644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@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4956120" y="3500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19" name="CaixaDeTexto 3"/>
          <p:cNvSpPr/>
          <p:nvPr/>
        </p:nvSpPr>
        <p:spPr>
          <a:xfrm>
            <a:off x="5522400" y="364824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of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"/>
          <p:cNvPicPr/>
          <p:nvPr/>
        </p:nvPicPr>
        <p:blipFill>
          <a:blip r:embed="rId4"/>
          <a:srcRect l="14441" t="16424" r="15237" b="17661"/>
          <a:stretch/>
        </p:blipFill>
        <p:spPr>
          <a:xfrm>
            <a:off x="6948360" y="3500280"/>
            <a:ext cx="679680" cy="636840"/>
          </a:xfrm>
          <a:prstGeom prst="rect">
            <a:avLst/>
          </a:prstGeom>
          <a:ln w="0">
            <a:noFill/>
          </a:ln>
        </p:spPr>
      </p:pic>
      <p:sp>
        <p:nvSpPr>
          <p:cNvPr id="121" name="CaixaDeTexto 1"/>
          <p:cNvSpPr/>
          <p:nvPr/>
        </p:nvSpPr>
        <p:spPr>
          <a:xfrm>
            <a:off x="7558560" y="366084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Imagem 1" descr=""/>
          <p:cNvPicPr/>
          <p:nvPr/>
        </p:nvPicPr>
        <p:blipFill>
          <a:blip r:embed="rId5"/>
          <a:stretch/>
        </p:blipFill>
        <p:spPr>
          <a:xfrm>
            <a:off x="1903320" y="5145120"/>
            <a:ext cx="530244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Carla Valeria Cazarim Godoy</cp:lastModifiedBy>
  <cp:lastPrinted>2016-05-25T19:41:00Z</cp:lastPrinted>
  <dcterms:modified xsi:type="dcterms:W3CDTF">2016-05-25T19:41:49Z</dcterms:modified>
  <cp:revision>108</cp:revision>
  <dc:subject/>
  <dc:title>Slide 1</dc:title>
</cp:coreProperties>
</file>